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FEE-7F2C-4DCB-B806-79A740A1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69D-D555-44E9-874B-1FABB58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13E-6BB7-417A-B13B-059F962A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C21-9CE4-46D7-8943-3E113D72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F0FE-5C02-43B1-9339-E68DD3F6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F99D-9C16-432E-9AAA-CBD7F17C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68B2-AE61-427F-A22F-C88CF400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C7DE-A1B5-4A99-8A2E-B17D524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A79E-0104-449C-BBC8-60508B8D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78B8-E93B-4D78-8458-ADDA3926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5330-5F96-4B1D-919F-9B0813C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266-2C8D-43B7-8011-41FF1395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222E-24E4-4FFE-83BB-947D031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355E-2322-4051-82E0-818106D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8BDD-974E-4C33-B31B-43CA09B4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3BFB-2D7B-4F9F-B00A-59C3D093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FCF6-5F52-433D-A5BD-407CF47E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7C3-CFF6-4175-9F11-3589FB59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7D2-D3BD-4C61-B76B-A3CE7629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260-4E46-4E42-8D7D-42A355B4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CF1-17A2-48F3-80D9-8AEB6803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489-F912-43F1-9154-90D7C2B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544-F00B-4A77-9F79-4891069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BD6-249B-40E8-A98F-DB6B185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4905-7D27-4FD0-A210-3E2D18351A1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A78A-A37C-4FCE-84D2-AE8677A7D48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789480"/>
            <a:ext cx="767880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Атаки на информационные системы с помощью агентов и скрытых каналов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828440" y="35809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рушо А.А., Тимонина Е.Е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Агенты-посредники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ент-посредник отвечает за координацию взаимодействия агентов, их связь и кооперацию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правило, агент-посредник обеспечивает защиту мета-агентов и агентов интерфейса от средств защит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ент-посредник выполняет фун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ar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взаимодействии других агент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енты- посредники должны быть связаны между соб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Мета-агенты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-агенты содержат предметно-ориентированную информацию, связанную либо с заданным доменом, либо с заданным видом приложений, либо с заданным видом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Агенты интерфейса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енты интерфейса реализуют функции скрытых каналов, использующие открытые коммуникации уров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и агенты реализуют доверенные процессы незаметного спуска информации на нижний уровень для последующей передачи по общедоступным канала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енты интерфейса должны уметь строить скрытый канал, преодолевающий средства защиты на границе сре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Взаимодействие агентов ВМА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ы через посредника снабжают мета-агента информацией о доступных сервис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ы на сервисы поступают от мета-агентов через посред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ники координируют действия агента при достижении заданной цели (например, взять информацию, передать ее через посредников агенту, имеющему связь с внешним нарушителем безопасности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Язык взаимодействия агентов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языка взаимодействия агентов основана на понятии события. Активность всех агентов, а также и коммуникаций между агентами строится вокруг передачи и обработки событий. При коммуникациях события составляют содержание сообщений между агентами. События являются целями для действий агентов. Каждое событие имеет  тип, множество параметров и содержание. Допустимые содержания и значения параметров могут различаться в зависимости от типа собы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Задачи, решаемые ВМА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трализация защиты системы и контроль над средо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ка сре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аврация В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чтожение и блокирование информационных ресур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Схема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VP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C(1,j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1                                                                                                     Sj      b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j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УЗ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C(2,j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C(2,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З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С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i)                                                                                   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133720"/>
            <a:ext cx="13716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91520" y="2057400"/>
            <a:ext cx="137160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5029200"/>
            <a:ext cx="15238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952880"/>
            <a:ext cx="15238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11760" y="3357720"/>
            <a:ext cx="2454120" cy="1457280"/>
          </a:xfrm>
          <a:custGeom>
            <a:avLst/>
            <a:gdLst/>
            <a:ahLst/>
            <a:rect l="l" t="t" r="r" b="b"/>
            <a:pathLst>
              <a:path w="1546" h="918">
                <a:moveTo>
                  <a:pt x="236" y="45"/>
                </a:moveTo>
                <a:cubicBezTo>
                  <a:pt x="290" y="9"/>
                  <a:pt x="334" y="7"/>
                  <a:pt x="398" y="0"/>
                </a:cubicBezTo>
                <a:cubicBezTo>
                  <a:pt x="411" y="1"/>
                  <a:pt x="597" y="13"/>
                  <a:pt x="623" y="18"/>
                </a:cubicBezTo>
                <a:cubicBezTo>
                  <a:pt x="678" y="28"/>
                  <a:pt x="734" y="50"/>
                  <a:pt x="785" y="72"/>
                </a:cubicBezTo>
                <a:cubicBezTo>
                  <a:pt x="817" y="86"/>
                  <a:pt x="852" y="85"/>
                  <a:pt x="884" y="99"/>
                </a:cubicBezTo>
                <a:cubicBezTo>
                  <a:pt x="962" y="132"/>
                  <a:pt x="1035" y="168"/>
                  <a:pt x="1118" y="189"/>
                </a:cubicBezTo>
                <a:cubicBezTo>
                  <a:pt x="1178" y="183"/>
                  <a:pt x="1259" y="157"/>
                  <a:pt x="1298" y="216"/>
                </a:cubicBezTo>
                <a:cubicBezTo>
                  <a:pt x="1322" y="311"/>
                  <a:pt x="1289" y="199"/>
                  <a:pt x="1325" y="279"/>
                </a:cubicBezTo>
                <a:cubicBezTo>
                  <a:pt x="1340" y="312"/>
                  <a:pt x="1342" y="359"/>
                  <a:pt x="1370" y="387"/>
                </a:cubicBezTo>
                <a:cubicBezTo>
                  <a:pt x="1410" y="427"/>
                  <a:pt x="1459" y="446"/>
                  <a:pt x="1505" y="477"/>
                </a:cubicBezTo>
                <a:cubicBezTo>
                  <a:pt x="1517" y="495"/>
                  <a:pt x="1529" y="513"/>
                  <a:pt x="1541" y="531"/>
                </a:cubicBezTo>
                <a:cubicBezTo>
                  <a:pt x="1546" y="539"/>
                  <a:pt x="1536" y="549"/>
                  <a:pt x="1532" y="558"/>
                </a:cubicBezTo>
                <a:cubicBezTo>
                  <a:pt x="1527" y="570"/>
                  <a:pt x="1523" y="584"/>
                  <a:pt x="1514" y="594"/>
                </a:cubicBezTo>
                <a:cubicBezTo>
                  <a:pt x="1488" y="624"/>
                  <a:pt x="1460" y="627"/>
                  <a:pt x="1424" y="639"/>
                </a:cubicBezTo>
                <a:cubicBezTo>
                  <a:pt x="1414" y="642"/>
                  <a:pt x="1406" y="652"/>
                  <a:pt x="1397" y="657"/>
                </a:cubicBezTo>
                <a:cubicBezTo>
                  <a:pt x="1356" y="680"/>
                  <a:pt x="1316" y="705"/>
                  <a:pt x="1271" y="720"/>
                </a:cubicBezTo>
                <a:cubicBezTo>
                  <a:pt x="1223" y="792"/>
                  <a:pt x="1253" y="762"/>
                  <a:pt x="1181" y="810"/>
                </a:cubicBezTo>
                <a:cubicBezTo>
                  <a:pt x="1172" y="816"/>
                  <a:pt x="1154" y="828"/>
                  <a:pt x="1154" y="828"/>
                </a:cubicBezTo>
                <a:cubicBezTo>
                  <a:pt x="1111" y="893"/>
                  <a:pt x="1018" y="894"/>
                  <a:pt x="947" y="918"/>
                </a:cubicBezTo>
                <a:cubicBezTo>
                  <a:pt x="887" y="909"/>
                  <a:pt x="845" y="883"/>
                  <a:pt x="785" y="873"/>
                </a:cubicBezTo>
                <a:cubicBezTo>
                  <a:pt x="752" y="868"/>
                  <a:pt x="719" y="867"/>
                  <a:pt x="686" y="864"/>
                </a:cubicBezTo>
                <a:cubicBezTo>
                  <a:pt x="642" y="842"/>
                  <a:pt x="608" y="822"/>
                  <a:pt x="560" y="810"/>
                </a:cubicBezTo>
                <a:cubicBezTo>
                  <a:pt x="533" y="828"/>
                  <a:pt x="506" y="837"/>
                  <a:pt x="479" y="855"/>
                </a:cubicBezTo>
                <a:cubicBezTo>
                  <a:pt x="339" y="848"/>
                  <a:pt x="286" y="869"/>
                  <a:pt x="200" y="783"/>
                </a:cubicBezTo>
                <a:cubicBezTo>
                  <a:pt x="165" y="678"/>
                  <a:pt x="181" y="748"/>
                  <a:pt x="191" y="567"/>
                </a:cubicBezTo>
                <a:cubicBezTo>
                  <a:pt x="188" y="543"/>
                  <a:pt x="191" y="517"/>
                  <a:pt x="182" y="495"/>
                </a:cubicBezTo>
                <a:cubicBezTo>
                  <a:pt x="178" y="485"/>
                  <a:pt x="164" y="482"/>
                  <a:pt x="155" y="477"/>
                </a:cubicBezTo>
                <a:cubicBezTo>
                  <a:pt x="118" y="456"/>
                  <a:pt x="88" y="433"/>
                  <a:pt x="47" y="423"/>
                </a:cubicBezTo>
                <a:cubicBezTo>
                  <a:pt x="32" y="413"/>
                  <a:pt x="5" y="400"/>
                  <a:pt x="2" y="378"/>
                </a:cubicBezTo>
                <a:cubicBezTo>
                  <a:pt x="0" y="366"/>
                  <a:pt x="7" y="354"/>
                  <a:pt x="11" y="342"/>
                </a:cubicBezTo>
                <a:cubicBezTo>
                  <a:pt x="30" y="280"/>
                  <a:pt x="15" y="298"/>
                  <a:pt x="56" y="270"/>
                </a:cubicBezTo>
                <a:cubicBezTo>
                  <a:pt x="72" y="221"/>
                  <a:pt x="107" y="182"/>
                  <a:pt x="128" y="135"/>
                </a:cubicBezTo>
                <a:cubicBezTo>
                  <a:pt x="136" y="118"/>
                  <a:pt x="130" y="92"/>
                  <a:pt x="146" y="81"/>
                </a:cubicBezTo>
                <a:cubicBezTo>
                  <a:pt x="181" y="57"/>
                  <a:pt x="214" y="67"/>
                  <a:pt x="236" y="4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4800600"/>
            <a:ext cx="609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9400" y="2743200"/>
            <a:ext cx="685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666880" y="51051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276720" y="4647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733920" y="4343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562720" y="34286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248520" y="304776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010280" y="2514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2819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4956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Введение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агентные системы создаются для интеграции приложений в распределенной систем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аждебная деятельность в распределенной системе также требует интегр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рассматривается возможность создания враждебной многоагентной архитектуры в распределенной компьютерной систем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5476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Основы архитектуры враждебной многоагентной системы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тек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ожены две разработанные и реализованные на практике модели. Первая модель – это модель невлияния, которая разработана американскими учеными и частично авторами этой работы. Данная модель позволяет сделать вывод о том, что при определенных условиях возможно существование многоагентной распределенной враждебной системы, которая «невидима» для средств защиты компьютерной систе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модель, положенная в основу данной работы, называет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Agent Architectu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АА), разработана несколько лет назад в американском институ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5476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Программно-аппаратные агенты, «невидимые» для средств защиты 1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компьютерная среда разбита на два уров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Если субъект на уров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жет выполнять любые действия и «видеть» все действия на уров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любой субъект на уров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может наблюдать какие-либо следы деятельности на уров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система удовлетворяет условиям невлия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5476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Программно-аппаратные агенты, «невидимые» для средств защиты 2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враждебный агент находится на уров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средства защиты на уров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выполняются условия невлияния, то агент «невиден» для средств защит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5476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Программно-аппаратные агенты, «невидимые» для средств защиты 3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невлияния реализуются в компьютерной сре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кладка» в процессо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акладка» в ядре операционной систе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Невидимая закладка» может обеспечить программному агенту на уровне приложений «невидимость» для средств защи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5476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Программно-аппаратные агенты,  «невидимые» для средств защиты 4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рытый канал – это способ передачи информации, который не выявляется средствами защи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множество враждебных агентов на уров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вязано скрытыми каналами, а средства защиты находятся на уров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выполняются условия невлияния, то распределенная сеть враждебных агентов «невидима» для средств защи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Архитектура «невидимой» сети враждебных агентов 1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прообраз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зя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Agent Architectu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ОА), разработанна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ая архитектура позволяет придать ВМА интеллектуальные функции, позволяющие защищаться от средств защиты и осуществлять разрушающие воздейств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Архитектура «невидимой» сети враждебных агентов 2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сеть враждебных агентов «невидима» для средств защиты. Выделяются три типа аг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енты-посредн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-аген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енты интерфейса с внешними сет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07:00:08Z</dcterms:created>
  <dc:creator>User</dc:creator>
  <dc:description/>
  <dc:language>en-US</dc:language>
  <cp:lastModifiedBy>User</cp:lastModifiedBy>
  <dcterms:modified xsi:type="dcterms:W3CDTF">2004-12-14T08:07:17Z</dcterms:modified>
  <cp:revision>30</cp:revision>
  <dc:subject/>
  <dc:title>Враждебные многоагентные системы </dc:title>
</cp:coreProperties>
</file>